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E6AC-3515-4D74-994F-4A371CD6C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3212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D077-4E1A-46A9-80FA-E20D9312B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321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321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B2FE-3910-4187-B912-A57E95B42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9907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9907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321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321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321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2FAE-67CF-48D2-AC70-628D21023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314A3-A8A3-4CDE-B417-D34727239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76C5A-0EE5-4B55-B7A8-9C5B22EA1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155E9-AD73-47AF-A3BB-BBF66E9BE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D4CAE-D9C5-4681-A005-82D2197BE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AE2F8-58B4-47D1-904F-7F726CCB7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904760" y="109440"/>
            <a:ext cx="65530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29FB9-1D40-4A29-8B2F-D6F9104B9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7321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05E56-3903-4A44-BD27-8772D189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B277-AFC1-417B-B8EE-0914F306D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7321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768F7-821A-45B4-BCE6-E2E8D6DC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73212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907E3-1ED4-4C35-ACAE-8E0F7074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73212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0FEBB-404B-463C-A110-377C0157E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321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7321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E5309-C22F-4E27-88A3-2392109E8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9907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9907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7321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7321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7321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35646-69DB-4A85-AC9D-337A1F30C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D45B-70EB-42C5-833E-76AD7D03E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FBB3-AC3B-4CE8-8EFE-E31E6DF6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0E37-70FB-4251-AFF5-88AFB7CDA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04760" y="109440"/>
            <a:ext cx="65530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BD8C-3E0A-43C5-B53E-28870B056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321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C0A4-9F39-40A5-BF6A-1B938EE4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321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4CA5-3851-45EB-A55C-D3E52694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3212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F851-D023-4DFC-BFB8-583FCF1C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51"/>
          <p:cNvGraphicFramePr/>
          <p:nvPr/>
        </p:nvGraphicFramePr>
        <p:xfrm>
          <a:off x="0" y="0"/>
          <a:ext cx="9144000" cy="838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5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15192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mem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586224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99072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173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8a6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3428640" y="6477120"/>
            <a:ext cx="2133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11BE1-3173-480D-9A47-6D919FBFF06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52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b3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53" descr="@"/>
          <p:cNvPicPr/>
          <p:nvPr/>
        </p:nvPicPr>
        <p:blipFill>
          <a:blip r:embed="rId4"/>
          <a:stretch/>
        </p:blipFill>
        <p:spPr>
          <a:xfrm>
            <a:off x="1371600" y="1522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8"/>
          <p:cNvSpPr/>
          <p:nvPr/>
        </p:nvSpPr>
        <p:spPr>
          <a:xfrm>
            <a:off x="7696080" y="228600"/>
            <a:ext cx="138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9"/>
          <p:cNvSpPr/>
          <p:nvPr/>
        </p:nvSpPr>
        <p:spPr>
          <a:xfrm>
            <a:off x="5562720" y="33480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173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8a6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553080"/>
            <a:ext cx="289584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4689E-44B8-4228-876A-87668D4A345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294920" y="5638320"/>
            <a:ext cx="723924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b3191"/>
                </a:solidFill>
                <a:latin typeface="Verdana"/>
              </a:rPr>
              <a:t>http://blogcongdong.com</a:t>
            </a:r>
            <a:endParaRPr b="1" lang="en-US" sz="20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371600" y="4724280"/>
            <a:ext cx="7238880" cy="106704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lide PowerPoint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0" name="Picture 6" descr="@"/>
          <p:cNvPicPr/>
          <p:nvPr/>
        </p:nvPicPr>
        <p:blipFill>
          <a:blip r:embed="rId1"/>
          <a:stretch/>
        </p:blipFill>
        <p:spPr>
          <a:xfrm>
            <a:off x="1600200" y="49528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2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3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AutoShape 6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8a6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7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4173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8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4173f1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9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4173f1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10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233e82"/>
              </a:gs>
              <a:gs pos="50000">
                <a:srgbClr val="4173f1"/>
              </a:gs>
              <a:gs pos="100000">
                <a:srgbClr val="233e8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11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294999"/>
              </a:gs>
              <a:gs pos="100000">
                <a:srgbClr val="4173f1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2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13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a982ca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14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a982ca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15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b466d"/>
              </a:gs>
              <a:gs pos="50000">
                <a:srgbClr val="a982ca"/>
              </a:gs>
              <a:gs pos="100000">
                <a:srgbClr val="5b466d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16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6b5380"/>
              </a:gs>
              <a:gs pos="100000">
                <a:srgbClr val="a982ca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7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18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261" name="Oval 19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20"/>
            <p:cNvSpPr/>
            <p:nvPr/>
          </p:nvSpPr>
          <p:spPr>
            <a:xfrm>
              <a:off x="15181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21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22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Oval 23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8a6ea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24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68a6ea">
                  <a:alpha val="32156"/>
                </a:srgbClr>
              </a:gs>
              <a:gs pos="100000">
                <a:srgbClr val="304d6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25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385a7f"/>
              </a:gs>
              <a:gs pos="50000">
                <a:srgbClr val="68a6ea"/>
              </a:gs>
              <a:gs pos="100000">
                <a:srgbClr val="385a7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26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426995"/>
              </a:gs>
              <a:gs pos="100000">
                <a:srgbClr val="68a6ea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27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28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271" name="Oval 29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30"/>
            <p:cNvSpPr/>
            <p:nvPr/>
          </p:nvSpPr>
          <p:spPr>
            <a:xfrm>
              <a:off x="3981600" y="2038680"/>
              <a:ext cx="126000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31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32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Group 33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276" name="Oval 34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35"/>
            <p:cNvSpPr/>
            <p:nvPr/>
          </p:nvSpPr>
          <p:spPr>
            <a:xfrm>
              <a:off x="6451920" y="2038680"/>
              <a:ext cx="12614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36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37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Text Box 38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9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0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Freeform 3"/>
          <p:cNvSpPr/>
          <p:nvPr/>
        </p:nvSpPr>
        <p:spPr>
          <a:xfrm>
            <a:off x="1219320" y="19051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4173f1"/>
              </a:gs>
              <a:gs pos="100000">
                <a:srgbClr val="68a6ea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32"/>
          <p:cNvSpPr/>
          <p:nvPr/>
        </p:nvSpPr>
        <p:spPr>
          <a:xfrm>
            <a:off x="5943600" y="36576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34"/>
          <p:cNvGrpSpPr/>
          <p:nvPr/>
        </p:nvGrpSpPr>
        <p:grpSpPr>
          <a:xfrm>
            <a:off x="1295280" y="1523880"/>
            <a:ext cx="3657600" cy="4181400"/>
            <a:chOff x="1295280" y="1523880"/>
            <a:chExt cx="3657600" cy="4181400"/>
          </a:xfrm>
        </p:grpSpPr>
        <p:sp>
          <p:nvSpPr>
            <p:cNvPr id="288" name="Oval 35"/>
            <p:cNvSpPr/>
            <p:nvPr/>
          </p:nvSpPr>
          <p:spPr>
            <a:xfrm rot="20876400">
              <a:off x="3316320" y="489564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36"/>
            <p:cNvSpPr/>
            <p:nvPr/>
          </p:nvSpPr>
          <p:spPr>
            <a:xfrm>
              <a:off x="3247920" y="367668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37"/>
            <p:cNvSpPr/>
            <p:nvPr/>
          </p:nvSpPr>
          <p:spPr>
            <a:xfrm>
              <a:off x="3268800" y="368604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38"/>
            <p:cNvSpPr/>
            <p:nvPr/>
          </p:nvSpPr>
          <p:spPr>
            <a:xfrm>
              <a:off x="3286080" y="370188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39"/>
            <p:cNvSpPr/>
            <p:nvPr/>
          </p:nvSpPr>
          <p:spPr>
            <a:xfrm>
              <a:off x="3378240" y="374652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40"/>
            <p:cNvSpPr/>
            <p:nvPr/>
          </p:nvSpPr>
          <p:spPr>
            <a:xfrm>
              <a:off x="3665880" y="430344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41"/>
            <p:cNvSpPr/>
            <p:nvPr/>
          </p:nvSpPr>
          <p:spPr>
            <a:xfrm rot="20826600">
              <a:off x="1473120" y="428580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5" name="Group 42"/>
            <p:cNvGrpSpPr/>
            <p:nvPr/>
          </p:nvGrpSpPr>
          <p:grpSpPr>
            <a:xfrm>
              <a:off x="1397160" y="3295440"/>
              <a:ext cx="1371240" cy="1441080"/>
              <a:chOff x="1397160" y="3295440"/>
              <a:chExt cx="1371240" cy="1441080"/>
            </a:xfrm>
          </p:grpSpPr>
          <p:sp>
            <p:nvSpPr>
              <p:cNvPr id="296" name="Oval 43"/>
              <p:cNvSpPr/>
              <p:nvPr/>
            </p:nvSpPr>
            <p:spPr>
              <a:xfrm>
                <a:off x="1397160" y="329544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Oval 44"/>
              <p:cNvSpPr/>
              <p:nvPr/>
            </p:nvSpPr>
            <p:spPr>
              <a:xfrm>
                <a:off x="1414800" y="330372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Oval 45"/>
              <p:cNvSpPr/>
              <p:nvPr/>
            </p:nvSpPr>
            <p:spPr>
              <a:xfrm>
                <a:off x="1428120" y="331740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Oval 46"/>
              <p:cNvSpPr/>
              <p:nvPr/>
            </p:nvSpPr>
            <p:spPr>
              <a:xfrm>
                <a:off x="1499760" y="335412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Text Box 47"/>
              <p:cNvSpPr/>
              <p:nvPr/>
            </p:nvSpPr>
            <p:spPr>
              <a:xfrm>
                <a:off x="1677600" y="380160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" name="Oval 48"/>
            <p:cNvSpPr/>
            <p:nvPr/>
          </p:nvSpPr>
          <p:spPr>
            <a:xfrm>
              <a:off x="1295280" y="253044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49"/>
            <p:cNvSpPr/>
            <p:nvPr/>
          </p:nvSpPr>
          <p:spPr>
            <a:xfrm>
              <a:off x="1371600" y="192384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50"/>
            <p:cNvSpPr/>
            <p:nvPr/>
          </p:nvSpPr>
          <p:spPr>
            <a:xfrm>
              <a:off x="1384200" y="192852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51"/>
            <p:cNvSpPr/>
            <p:nvPr/>
          </p:nvSpPr>
          <p:spPr>
            <a:xfrm>
              <a:off x="1395360" y="193968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52"/>
            <p:cNvSpPr/>
            <p:nvPr/>
          </p:nvSpPr>
          <p:spPr>
            <a:xfrm>
              <a:off x="1449360" y="196524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53"/>
            <p:cNvSpPr/>
            <p:nvPr/>
          </p:nvSpPr>
          <p:spPr>
            <a:xfrm>
              <a:off x="1568520" y="22730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54"/>
            <p:cNvSpPr/>
            <p:nvPr/>
          </p:nvSpPr>
          <p:spPr>
            <a:xfrm>
              <a:off x="2562120" y="205740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55"/>
            <p:cNvSpPr/>
            <p:nvPr/>
          </p:nvSpPr>
          <p:spPr>
            <a:xfrm>
              <a:off x="2684520" y="152388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56"/>
            <p:cNvSpPr/>
            <p:nvPr/>
          </p:nvSpPr>
          <p:spPr>
            <a:xfrm>
              <a:off x="2693880" y="152712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57"/>
            <p:cNvSpPr/>
            <p:nvPr/>
          </p:nvSpPr>
          <p:spPr>
            <a:xfrm>
              <a:off x="2700360" y="153324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58"/>
            <p:cNvSpPr/>
            <p:nvPr/>
          </p:nvSpPr>
          <p:spPr>
            <a:xfrm>
              <a:off x="2736720" y="155232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59"/>
            <p:cNvSpPr/>
            <p:nvPr/>
          </p:nvSpPr>
          <p:spPr>
            <a:xfrm>
              <a:off x="2754720" y="17478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3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15" name="Group 52"/>
          <p:cNvGrpSpPr/>
          <p:nvPr/>
        </p:nvGrpSpPr>
        <p:grpSpPr>
          <a:xfrm>
            <a:off x="685800" y="1447920"/>
            <a:ext cx="7848360" cy="4419000"/>
            <a:chOff x="685800" y="1447920"/>
            <a:chExt cx="7848360" cy="4419000"/>
          </a:xfrm>
        </p:grpSpPr>
        <p:sp>
          <p:nvSpPr>
            <p:cNvPr id="316" name="Oval 53"/>
            <p:cNvSpPr/>
            <p:nvPr/>
          </p:nvSpPr>
          <p:spPr>
            <a:xfrm>
              <a:off x="2682000" y="2149200"/>
              <a:ext cx="3783240" cy="3717720"/>
            </a:xfrm>
            <a:prstGeom prst="ellipse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" name="Group 54"/>
            <p:cNvGrpSpPr/>
            <p:nvPr/>
          </p:nvGrpSpPr>
          <p:grpSpPr>
            <a:xfrm>
              <a:off x="3611160" y="3078720"/>
              <a:ext cx="1926360" cy="2001960"/>
              <a:chOff x="3611160" y="3078720"/>
              <a:chExt cx="1926360" cy="2001960"/>
            </a:xfrm>
          </p:grpSpPr>
          <p:sp>
            <p:nvSpPr>
              <p:cNvPr id="318" name="Oval 55"/>
              <p:cNvSpPr/>
              <p:nvPr/>
            </p:nvSpPr>
            <p:spPr>
              <a:xfrm>
                <a:off x="3611160" y="3078720"/>
                <a:ext cx="1926360" cy="200196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42e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56"/>
              <p:cNvSpPr/>
              <p:nvPr/>
            </p:nvSpPr>
            <p:spPr>
              <a:xfrm>
                <a:off x="3831120" y="3111840"/>
                <a:ext cx="1486080" cy="7552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0" name="Text Box 57"/>
            <p:cNvSpPr/>
            <p:nvPr/>
          </p:nvSpPr>
          <p:spPr>
            <a:xfrm>
              <a:off x="3913920" y="3865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Group 58"/>
            <p:cNvGrpSpPr/>
            <p:nvPr/>
          </p:nvGrpSpPr>
          <p:grpSpPr>
            <a:xfrm>
              <a:off x="4182120" y="1791720"/>
              <a:ext cx="641880" cy="618120"/>
              <a:chOff x="4182120" y="1791720"/>
              <a:chExt cx="641880" cy="618120"/>
            </a:xfrm>
          </p:grpSpPr>
          <p:grpSp>
            <p:nvGrpSpPr>
              <p:cNvPr id="322" name="Group 59"/>
              <p:cNvGrpSpPr/>
              <p:nvPr/>
            </p:nvGrpSpPr>
            <p:grpSpPr>
              <a:xfrm>
                <a:off x="4182120" y="1791720"/>
                <a:ext cx="641880" cy="618120"/>
                <a:chOff x="4182120" y="1791720"/>
                <a:chExt cx="641880" cy="618120"/>
              </a:xfrm>
            </p:grpSpPr>
            <p:sp>
              <p:nvSpPr>
                <p:cNvPr id="323" name="Oval 60"/>
                <p:cNvSpPr/>
                <p:nvPr/>
              </p:nvSpPr>
              <p:spPr>
                <a:xfrm>
                  <a:off x="4182120" y="1791720"/>
                  <a:ext cx="641880" cy="61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564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Freeform 61"/>
                <p:cNvSpPr/>
                <p:nvPr/>
              </p:nvSpPr>
              <p:spPr>
                <a:xfrm>
                  <a:off x="4255560" y="1801440"/>
                  <a:ext cx="494640" cy="2336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cc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5" name="Text Box 62"/>
              <p:cNvSpPr/>
              <p:nvPr/>
            </p:nvSpPr>
            <p:spPr>
              <a:xfrm>
                <a:off x="4325040" y="188676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63"/>
            <p:cNvGrpSpPr/>
            <p:nvPr/>
          </p:nvGrpSpPr>
          <p:grpSpPr>
            <a:xfrm>
              <a:off x="3558240" y="4874400"/>
              <a:ext cx="344160" cy="313560"/>
              <a:chOff x="3558240" y="4874400"/>
              <a:chExt cx="344160" cy="313560"/>
            </a:xfrm>
          </p:grpSpPr>
          <p:sp>
            <p:nvSpPr>
              <p:cNvPr id="327" name="Oval 64"/>
              <p:cNvSpPr/>
              <p:nvPr/>
            </p:nvSpPr>
            <p:spPr>
              <a:xfrm rot="18226800">
                <a:off x="3584520" y="5036760"/>
                <a:ext cx="122400" cy="128880"/>
              </a:xfrm>
              <a:prstGeom prst="ellipse">
                <a:avLst/>
              </a:prstGeom>
              <a:gradFill rotWithShape="0">
                <a:gsLst>
                  <a:gs pos="0">
                    <a:srgbClr val="a982ca"/>
                  </a:gs>
                  <a:gs pos="100000">
                    <a:srgbClr val="71578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Oval 65"/>
              <p:cNvSpPr/>
              <p:nvPr/>
            </p:nvSpPr>
            <p:spPr>
              <a:xfrm rot="18226800">
                <a:off x="3753360" y="4896360"/>
                <a:ext cx="122040" cy="129240"/>
              </a:xfrm>
              <a:prstGeom prst="ellipse">
                <a:avLst/>
              </a:prstGeom>
              <a:gradFill rotWithShape="0">
                <a:gsLst>
                  <a:gs pos="0">
                    <a:srgbClr val="a982ca"/>
                  </a:gs>
                  <a:gs pos="100000">
                    <a:srgbClr val="71578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66"/>
            <p:cNvGrpSpPr/>
            <p:nvPr/>
          </p:nvGrpSpPr>
          <p:grpSpPr>
            <a:xfrm>
              <a:off x="2968920" y="5147640"/>
              <a:ext cx="641880" cy="643320"/>
              <a:chOff x="2968920" y="5147640"/>
              <a:chExt cx="641880" cy="643320"/>
            </a:xfrm>
          </p:grpSpPr>
          <p:grpSp>
            <p:nvGrpSpPr>
              <p:cNvPr id="330" name="Group 67"/>
              <p:cNvGrpSpPr/>
              <p:nvPr/>
            </p:nvGrpSpPr>
            <p:grpSpPr>
              <a:xfrm>
                <a:off x="2968920" y="5147640"/>
                <a:ext cx="641880" cy="643320"/>
                <a:chOff x="2968920" y="5147640"/>
                <a:chExt cx="641880" cy="643320"/>
              </a:xfrm>
            </p:grpSpPr>
            <p:sp>
              <p:nvSpPr>
                <p:cNvPr id="331" name="Oval 68"/>
                <p:cNvSpPr/>
                <p:nvPr/>
              </p:nvSpPr>
              <p:spPr>
                <a:xfrm>
                  <a:off x="2968920" y="5147640"/>
                  <a:ext cx="641880" cy="643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82ca"/>
                    </a:gs>
                    <a:gs pos="100000">
                      <a:srgbClr val="29203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Freeform 69"/>
                <p:cNvSpPr/>
                <p:nvPr/>
              </p:nvSpPr>
              <p:spPr>
                <a:xfrm>
                  <a:off x="3042360" y="5157720"/>
                  <a:ext cx="494640" cy="2430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a982c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3" name="Text Box 70"/>
              <p:cNvSpPr/>
              <p:nvPr/>
            </p:nvSpPr>
            <p:spPr>
              <a:xfrm>
                <a:off x="3107880" y="526824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71"/>
            <p:cNvGrpSpPr/>
            <p:nvPr/>
          </p:nvGrpSpPr>
          <p:grpSpPr>
            <a:xfrm>
              <a:off x="6111360" y="3078720"/>
              <a:ext cx="639360" cy="650880"/>
              <a:chOff x="6111360" y="3078720"/>
              <a:chExt cx="639360" cy="650880"/>
            </a:xfrm>
          </p:grpSpPr>
          <p:grpSp>
            <p:nvGrpSpPr>
              <p:cNvPr id="335" name="Group 72"/>
              <p:cNvGrpSpPr/>
              <p:nvPr/>
            </p:nvGrpSpPr>
            <p:grpSpPr>
              <a:xfrm>
                <a:off x="6111360" y="3078720"/>
                <a:ext cx="639360" cy="650880"/>
                <a:chOff x="6111360" y="3078720"/>
                <a:chExt cx="639360" cy="650880"/>
              </a:xfrm>
            </p:grpSpPr>
            <p:sp>
              <p:nvSpPr>
                <p:cNvPr id="336" name="Oval 73"/>
                <p:cNvSpPr/>
                <p:nvPr/>
              </p:nvSpPr>
              <p:spPr>
                <a:xfrm>
                  <a:off x="6111360" y="3078720"/>
                  <a:ext cx="639360" cy="65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173f1"/>
                    </a:gs>
                    <a:gs pos="100000">
                      <a:srgbClr val="2948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Freeform 74"/>
                <p:cNvSpPr/>
                <p:nvPr/>
              </p:nvSpPr>
              <p:spPr>
                <a:xfrm>
                  <a:off x="6184080" y="3090240"/>
                  <a:ext cx="493920" cy="245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173f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8" name="Text Box 75"/>
              <p:cNvSpPr/>
              <p:nvPr/>
            </p:nvSpPr>
            <p:spPr>
              <a:xfrm>
                <a:off x="6236280" y="316656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Group 76"/>
            <p:cNvGrpSpPr/>
            <p:nvPr/>
          </p:nvGrpSpPr>
          <p:grpSpPr>
            <a:xfrm>
              <a:off x="5537520" y="5152320"/>
              <a:ext cx="612360" cy="583560"/>
              <a:chOff x="5537520" y="5152320"/>
              <a:chExt cx="612360" cy="583560"/>
            </a:xfrm>
          </p:grpSpPr>
          <p:grpSp>
            <p:nvGrpSpPr>
              <p:cNvPr id="340" name="Group 77"/>
              <p:cNvGrpSpPr/>
              <p:nvPr/>
            </p:nvGrpSpPr>
            <p:grpSpPr>
              <a:xfrm>
                <a:off x="5537520" y="5152320"/>
                <a:ext cx="612360" cy="583560"/>
                <a:chOff x="5537520" y="5152320"/>
                <a:chExt cx="612360" cy="583560"/>
              </a:xfrm>
            </p:grpSpPr>
            <p:sp>
              <p:nvSpPr>
                <p:cNvPr id="341" name="Oval 78"/>
                <p:cNvSpPr/>
                <p:nvPr/>
              </p:nvSpPr>
              <p:spPr>
                <a:xfrm>
                  <a:off x="5537520" y="5152320"/>
                  <a:ext cx="612360" cy="583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57575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Freeform 79"/>
                <p:cNvSpPr/>
                <p:nvPr/>
              </p:nvSpPr>
              <p:spPr>
                <a:xfrm>
                  <a:off x="5607720" y="5161320"/>
                  <a:ext cx="472320" cy="220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3" name="Text Box 80"/>
              <p:cNvSpPr/>
              <p:nvPr/>
            </p:nvSpPr>
            <p:spPr>
              <a:xfrm>
                <a:off x="5673240" y="518472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81"/>
            <p:cNvGrpSpPr/>
            <p:nvPr/>
          </p:nvGrpSpPr>
          <p:grpSpPr>
            <a:xfrm>
              <a:off x="2469600" y="3078720"/>
              <a:ext cx="641880" cy="643320"/>
              <a:chOff x="2469600" y="3078720"/>
              <a:chExt cx="641880" cy="643320"/>
            </a:xfrm>
          </p:grpSpPr>
          <p:grpSp>
            <p:nvGrpSpPr>
              <p:cNvPr id="345" name="Group 82"/>
              <p:cNvGrpSpPr/>
              <p:nvPr/>
            </p:nvGrpSpPr>
            <p:grpSpPr>
              <a:xfrm>
                <a:off x="2469600" y="3078720"/>
                <a:ext cx="641880" cy="643320"/>
                <a:chOff x="2469600" y="3078720"/>
                <a:chExt cx="641880" cy="643320"/>
              </a:xfrm>
            </p:grpSpPr>
            <p:sp>
              <p:nvSpPr>
                <p:cNvPr id="346" name="Oval 83"/>
                <p:cNvSpPr/>
                <p:nvPr/>
              </p:nvSpPr>
              <p:spPr>
                <a:xfrm>
                  <a:off x="2469600" y="3078720"/>
                  <a:ext cx="641880" cy="643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8a6ea"/>
                    </a:gs>
                    <a:gs pos="100000">
                      <a:srgbClr val="2f4c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Freeform 84"/>
                <p:cNvSpPr/>
                <p:nvPr/>
              </p:nvSpPr>
              <p:spPr>
                <a:xfrm>
                  <a:off x="2542320" y="3089880"/>
                  <a:ext cx="495720" cy="2422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8a6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8" name="Text Box 85"/>
              <p:cNvSpPr/>
              <p:nvPr/>
            </p:nvSpPr>
            <p:spPr>
              <a:xfrm>
                <a:off x="2607480" y="314892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9" name="Oval 86"/>
            <p:cNvSpPr/>
            <p:nvPr/>
          </p:nvSpPr>
          <p:spPr>
            <a:xfrm rot="18226800">
              <a:off x="5471280" y="5003640"/>
              <a:ext cx="120600" cy="1306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87"/>
            <p:cNvSpPr/>
            <p:nvPr/>
          </p:nvSpPr>
          <p:spPr>
            <a:xfrm rot="18226800">
              <a:off x="5326560" y="4861440"/>
              <a:ext cx="122040" cy="1306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1" name="Group 88"/>
            <p:cNvGrpSpPr/>
            <p:nvPr/>
          </p:nvGrpSpPr>
          <p:grpSpPr>
            <a:xfrm>
              <a:off x="3159720" y="3481560"/>
              <a:ext cx="389160" cy="244440"/>
              <a:chOff x="3159720" y="3481560"/>
              <a:chExt cx="389160" cy="244440"/>
            </a:xfrm>
          </p:grpSpPr>
          <p:sp>
            <p:nvSpPr>
              <p:cNvPr id="352" name="Oval 89"/>
              <p:cNvSpPr/>
              <p:nvPr/>
            </p:nvSpPr>
            <p:spPr>
              <a:xfrm rot="18226800">
                <a:off x="3186000" y="3503520"/>
                <a:ext cx="122040" cy="128880"/>
              </a:xfrm>
              <a:prstGeom prst="ellipse">
                <a:avLst/>
              </a:prstGeom>
              <a:gradFill rotWithShape="0">
                <a:gsLst>
                  <a:gs pos="0">
                    <a:srgbClr val="68a6ea"/>
                  </a:gs>
                  <a:gs pos="100000">
                    <a:srgbClr val="3c608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Oval 90"/>
              <p:cNvSpPr/>
              <p:nvPr/>
            </p:nvSpPr>
            <p:spPr>
              <a:xfrm rot="18226800">
                <a:off x="3400200" y="3574800"/>
                <a:ext cx="122040" cy="128880"/>
              </a:xfrm>
              <a:prstGeom prst="ellipse">
                <a:avLst/>
              </a:prstGeom>
              <a:gradFill rotWithShape="0">
                <a:gsLst>
                  <a:gs pos="0">
                    <a:srgbClr val="68a6ea"/>
                  </a:gs>
                  <a:gs pos="100000">
                    <a:srgbClr val="33517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" name="Group 91"/>
            <p:cNvGrpSpPr/>
            <p:nvPr/>
          </p:nvGrpSpPr>
          <p:grpSpPr>
            <a:xfrm>
              <a:off x="4444200" y="2522520"/>
              <a:ext cx="175320" cy="438480"/>
              <a:chOff x="4444200" y="2522520"/>
              <a:chExt cx="175320" cy="438480"/>
            </a:xfrm>
          </p:grpSpPr>
          <p:sp>
            <p:nvSpPr>
              <p:cNvPr id="355" name="Oval 92"/>
              <p:cNvSpPr/>
              <p:nvPr/>
            </p:nvSpPr>
            <p:spPr>
              <a:xfrm rot="18226800">
                <a:off x="4470480" y="2544480"/>
                <a:ext cx="122040" cy="1292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5d4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Oval 93"/>
              <p:cNvSpPr/>
              <p:nvPr/>
            </p:nvSpPr>
            <p:spPr>
              <a:xfrm rot="18226800">
                <a:off x="4470480" y="2809440"/>
                <a:ext cx="122040" cy="1292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634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Oval 94"/>
            <p:cNvSpPr/>
            <p:nvPr/>
          </p:nvSpPr>
          <p:spPr>
            <a:xfrm rot="18226800">
              <a:off x="5843880" y="3531240"/>
              <a:ext cx="122040" cy="130680"/>
            </a:xfrm>
            <a:prstGeom prst="ellipse">
              <a:avLst/>
            </a:prstGeom>
            <a:gradFill rotWithShape="0">
              <a:gsLst>
                <a:gs pos="0">
                  <a:srgbClr val="4173f1"/>
                </a:gs>
                <a:gs pos="100000">
                  <a:srgbClr val="1d33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95"/>
            <p:cNvSpPr/>
            <p:nvPr/>
          </p:nvSpPr>
          <p:spPr>
            <a:xfrm rot="18226800">
              <a:off x="5613480" y="3646080"/>
              <a:ext cx="121680" cy="130680"/>
            </a:xfrm>
            <a:prstGeom prst="ellipse">
              <a:avLst/>
            </a:prstGeom>
            <a:gradFill rotWithShape="0">
              <a:gsLst>
                <a:gs pos="0">
                  <a:srgbClr val="4173f1"/>
                </a:gs>
                <a:gs pos="100000">
                  <a:srgbClr val="1d33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96"/>
            <p:cNvSpPr/>
            <p:nvPr/>
          </p:nvSpPr>
          <p:spPr>
            <a:xfrm>
              <a:off x="685800" y="3222000"/>
              <a:ext cx="178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97"/>
            <p:cNvSpPr/>
            <p:nvPr/>
          </p:nvSpPr>
          <p:spPr>
            <a:xfrm>
              <a:off x="3611160" y="1447920"/>
              <a:ext cx="178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98"/>
            <p:cNvSpPr/>
            <p:nvPr/>
          </p:nvSpPr>
          <p:spPr>
            <a:xfrm>
              <a:off x="6750720" y="3234960"/>
              <a:ext cx="178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99"/>
            <p:cNvSpPr/>
            <p:nvPr/>
          </p:nvSpPr>
          <p:spPr>
            <a:xfrm>
              <a:off x="1042200" y="5366880"/>
              <a:ext cx="178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100"/>
            <p:cNvSpPr/>
            <p:nvPr/>
          </p:nvSpPr>
          <p:spPr>
            <a:xfrm>
              <a:off x="6179760" y="5366880"/>
              <a:ext cx="178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66" name="Group 3"/>
          <p:cNvGrpSpPr/>
          <p:nvPr/>
        </p:nvGrpSpPr>
        <p:grpSpPr>
          <a:xfrm>
            <a:off x="1143000" y="2060640"/>
            <a:ext cx="2170080" cy="4034880"/>
            <a:chOff x="1143000" y="2060640"/>
            <a:chExt cx="2170080" cy="4034880"/>
          </a:xfrm>
        </p:grpSpPr>
        <p:sp>
          <p:nvSpPr>
            <p:cNvPr id="367" name="AutoShape 4"/>
            <p:cNvSpPr/>
            <p:nvPr/>
          </p:nvSpPr>
          <p:spPr>
            <a:xfrm>
              <a:off x="1143000" y="23680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AutoShape 5"/>
            <p:cNvSpPr/>
            <p:nvPr/>
          </p:nvSpPr>
          <p:spPr>
            <a:xfrm>
              <a:off x="1176480" y="23763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AutoShape 6"/>
            <p:cNvSpPr/>
            <p:nvPr/>
          </p:nvSpPr>
          <p:spPr>
            <a:xfrm>
              <a:off x="1193760" y="44398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AutoShape 7"/>
            <p:cNvSpPr/>
            <p:nvPr/>
          </p:nvSpPr>
          <p:spPr>
            <a:xfrm>
              <a:off x="1193760" y="23983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AutoShape 8"/>
            <p:cNvSpPr/>
            <p:nvPr/>
          </p:nvSpPr>
          <p:spPr>
            <a:xfrm>
              <a:off x="1149480" y="52257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AutoShape 9"/>
            <p:cNvSpPr/>
            <p:nvPr/>
          </p:nvSpPr>
          <p:spPr>
            <a:xfrm>
              <a:off x="1193760" y="52495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3" name="Group 10"/>
            <p:cNvGrpSpPr/>
            <p:nvPr/>
          </p:nvGrpSpPr>
          <p:grpSpPr>
            <a:xfrm>
              <a:off x="1887480" y="2060640"/>
              <a:ext cx="642960" cy="642600"/>
              <a:chOff x="1887480" y="2060640"/>
              <a:chExt cx="642960" cy="642600"/>
            </a:xfrm>
          </p:grpSpPr>
          <p:sp>
            <p:nvSpPr>
              <p:cNvPr id="374" name="Oval 11"/>
              <p:cNvSpPr/>
              <p:nvPr/>
            </p:nvSpPr>
            <p:spPr>
              <a:xfrm>
                <a:off x="1887480" y="20606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Oval 12"/>
              <p:cNvSpPr/>
              <p:nvPr/>
            </p:nvSpPr>
            <p:spPr>
              <a:xfrm>
                <a:off x="1893960" y="20653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Oval 13"/>
              <p:cNvSpPr/>
              <p:nvPr/>
            </p:nvSpPr>
            <p:spPr>
              <a:xfrm>
                <a:off x="1901880" y="20692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Oval 14"/>
              <p:cNvSpPr/>
              <p:nvPr/>
            </p:nvSpPr>
            <p:spPr>
              <a:xfrm>
                <a:off x="1908360" y="20750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Oval 15"/>
              <p:cNvSpPr/>
              <p:nvPr/>
            </p:nvSpPr>
            <p:spPr>
              <a:xfrm>
                <a:off x="1942200" y="20905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9" name="Text Box 16"/>
            <p:cNvSpPr/>
            <p:nvPr/>
          </p:nvSpPr>
          <p:spPr>
            <a:xfrm>
              <a:off x="2027520" y="2152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17"/>
            <p:cNvSpPr/>
            <p:nvPr/>
          </p:nvSpPr>
          <p:spPr>
            <a:xfrm>
              <a:off x="1219320" y="28224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Group 18"/>
          <p:cNvGrpSpPr/>
          <p:nvPr/>
        </p:nvGrpSpPr>
        <p:grpSpPr>
          <a:xfrm>
            <a:off x="3505320" y="2060640"/>
            <a:ext cx="2166840" cy="4034880"/>
            <a:chOff x="3505320" y="2060640"/>
            <a:chExt cx="2166840" cy="4034880"/>
          </a:xfrm>
        </p:grpSpPr>
        <p:sp>
          <p:nvSpPr>
            <p:cNvPr id="382" name="AutoShape 19"/>
            <p:cNvSpPr/>
            <p:nvPr/>
          </p:nvSpPr>
          <p:spPr>
            <a:xfrm>
              <a:off x="3505320" y="23680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AutoShape 20"/>
            <p:cNvSpPr/>
            <p:nvPr/>
          </p:nvSpPr>
          <p:spPr>
            <a:xfrm>
              <a:off x="3538440" y="23763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AutoShape 21"/>
            <p:cNvSpPr/>
            <p:nvPr/>
          </p:nvSpPr>
          <p:spPr>
            <a:xfrm>
              <a:off x="3556080" y="44398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AutoShape 22"/>
            <p:cNvSpPr/>
            <p:nvPr/>
          </p:nvSpPr>
          <p:spPr>
            <a:xfrm>
              <a:off x="3556080" y="23983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3"/>
            <p:cNvSpPr/>
            <p:nvPr/>
          </p:nvSpPr>
          <p:spPr>
            <a:xfrm>
              <a:off x="4249800" y="20606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4"/>
            <p:cNvSpPr/>
            <p:nvPr/>
          </p:nvSpPr>
          <p:spPr>
            <a:xfrm>
              <a:off x="4255920" y="20649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5"/>
            <p:cNvSpPr/>
            <p:nvPr/>
          </p:nvSpPr>
          <p:spPr>
            <a:xfrm>
              <a:off x="4264200" y="20682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6"/>
            <p:cNvSpPr/>
            <p:nvPr/>
          </p:nvSpPr>
          <p:spPr>
            <a:xfrm>
              <a:off x="4270320" y="20746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27"/>
            <p:cNvSpPr/>
            <p:nvPr/>
          </p:nvSpPr>
          <p:spPr>
            <a:xfrm>
              <a:off x="4305240" y="20905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28"/>
            <p:cNvSpPr/>
            <p:nvPr/>
          </p:nvSpPr>
          <p:spPr>
            <a:xfrm>
              <a:off x="4389840" y="2152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 Box 29"/>
            <p:cNvSpPr/>
            <p:nvPr/>
          </p:nvSpPr>
          <p:spPr>
            <a:xfrm>
              <a:off x="3581280" y="28224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30"/>
            <p:cNvSpPr/>
            <p:nvPr/>
          </p:nvSpPr>
          <p:spPr>
            <a:xfrm>
              <a:off x="3508200" y="52257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AutoShape 31"/>
            <p:cNvSpPr/>
            <p:nvPr/>
          </p:nvSpPr>
          <p:spPr>
            <a:xfrm>
              <a:off x="3552840" y="52495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32"/>
          <p:cNvGrpSpPr/>
          <p:nvPr/>
        </p:nvGrpSpPr>
        <p:grpSpPr>
          <a:xfrm>
            <a:off x="5861160" y="2060640"/>
            <a:ext cx="2170080" cy="4034880"/>
            <a:chOff x="5861160" y="2060640"/>
            <a:chExt cx="2170080" cy="4034880"/>
          </a:xfrm>
        </p:grpSpPr>
        <p:sp>
          <p:nvSpPr>
            <p:cNvPr id="396" name="AutoShape 33"/>
            <p:cNvSpPr/>
            <p:nvPr/>
          </p:nvSpPr>
          <p:spPr>
            <a:xfrm>
              <a:off x="5867280" y="23680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AutoShape 34"/>
            <p:cNvSpPr/>
            <p:nvPr/>
          </p:nvSpPr>
          <p:spPr>
            <a:xfrm>
              <a:off x="5900760" y="23763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AutoShape 35"/>
            <p:cNvSpPr/>
            <p:nvPr/>
          </p:nvSpPr>
          <p:spPr>
            <a:xfrm>
              <a:off x="5918040" y="44398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AutoShape 36"/>
            <p:cNvSpPr/>
            <p:nvPr/>
          </p:nvSpPr>
          <p:spPr>
            <a:xfrm>
              <a:off x="5918040" y="23983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0" name="Group 37"/>
            <p:cNvGrpSpPr/>
            <p:nvPr/>
          </p:nvGrpSpPr>
          <p:grpSpPr>
            <a:xfrm>
              <a:off x="6611760" y="2060640"/>
              <a:ext cx="642960" cy="642600"/>
              <a:chOff x="6611760" y="2060640"/>
              <a:chExt cx="642960" cy="642600"/>
            </a:xfrm>
          </p:grpSpPr>
          <p:sp>
            <p:nvSpPr>
              <p:cNvPr id="401" name="Oval 38"/>
              <p:cNvSpPr/>
              <p:nvPr/>
            </p:nvSpPr>
            <p:spPr>
              <a:xfrm>
                <a:off x="6611760" y="20606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Oval 39"/>
              <p:cNvSpPr/>
              <p:nvPr/>
            </p:nvSpPr>
            <p:spPr>
              <a:xfrm>
                <a:off x="6618240" y="20653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Oval 40"/>
              <p:cNvSpPr/>
              <p:nvPr/>
            </p:nvSpPr>
            <p:spPr>
              <a:xfrm>
                <a:off x="6626160" y="20692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Oval 41"/>
              <p:cNvSpPr/>
              <p:nvPr/>
            </p:nvSpPr>
            <p:spPr>
              <a:xfrm>
                <a:off x="6632640" y="20750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Oval 42"/>
              <p:cNvSpPr/>
              <p:nvPr/>
            </p:nvSpPr>
            <p:spPr>
              <a:xfrm>
                <a:off x="6666480" y="20905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6" name="Text Box 43"/>
            <p:cNvSpPr/>
            <p:nvPr/>
          </p:nvSpPr>
          <p:spPr>
            <a:xfrm>
              <a:off x="6752160" y="2152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 Box 44"/>
            <p:cNvSpPr/>
            <p:nvPr/>
          </p:nvSpPr>
          <p:spPr>
            <a:xfrm>
              <a:off x="5943600" y="28224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AutoShape 45"/>
            <p:cNvSpPr/>
            <p:nvPr/>
          </p:nvSpPr>
          <p:spPr>
            <a:xfrm>
              <a:off x="5861160" y="52257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AutoShape 46"/>
            <p:cNvSpPr/>
            <p:nvPr/>
          </p:nvSpPr>
          <p:spPr>
            <a:xfrm>
              <a:off x="5905440" y="52495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12" name="Group 3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413" name="Rectangle 4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5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Group 6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416" name="Group 7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417" name="Freeform 8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9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9" name="Group 10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420" name="Freeform 11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12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2" name="Group 13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23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6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17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8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Group 19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429" name="Oval 20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Oval 21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Oval 22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Oval 23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3" name="Group 24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34" name="Group 25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35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27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28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38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30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0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36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46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38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Group 41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451" name="Group 42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452" name="Freeform 43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44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45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455" name="Freeform 46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47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7" name="Group 48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58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51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52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53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3" name="Group 54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464" name="Oval 55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Oval 56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Oval 57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Oval 58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8" name="Group 59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69" name="Group 60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70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62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2" name="Group 63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73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65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5" name="Group 66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76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69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70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71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1" name="Group 72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482" name="Oval 73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Oval 74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Oval 75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Oval 76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6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Group 85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495" name="Text Box 86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Text Box 87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 Box 88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Text Box 89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9" name="AutoShape 90"/>
            <p:cNvCxnSpPr>
              <a:stCxn id="495" idx="3"/>
              <a:endCxn id="496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0b3191"/>
              </a:solidFill>
              <a:miter/>
              <a:tailEnd len="med" type="triangle" w="med"/>
            </a:ln>
          </p:spPr>
        </p:cxnSp>
        <p:cxnSp>
          <p:nvCxnSpPr>
            <p:cNvPr id="500" name="AutoShape 91"/>
            <p:cNvCxnSpPr>
              <a:stCxn id="496" idx="3"/>
              <a:endCxn id="497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0b3191"/>
              </a:solidFill>
              <a:miter/>
              <a:tailEnd len="med" type="triangle" w="med"/>
            </a:ln>
          </p:spPr>
        </p:cxnSp>
        <p:cxnSp>
          <p:nvCxnSpPr>
            <p:cNvPr id="501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0b3191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04" name="Group 3"/>
          <p:cNvGrpSpPr/>
          <p:nvPr/>
        </p:nvGrpSpPr>
        <p:grpSpPr>
          <a:xfrm>
            <a:off x="2286000" y="1447920"/>
            <a:ext cx="4495320" cy="4514400"/>
            <a:chOff x="2286000" y="1447920"/>
            <a:chExt cx="4495320" cy="4514400"/>
          </a:xfrm>
        </p:grpSpPr>
        <p:sp>
          <p:nvSpPr>
            <p:cNvPr id="505" name="Puzzle3"/>
            <p:cNvSpPr/>
            <p:nvPr/>
          </p:nvSpPr>
          <p:spPr>
            <a:xfrm>
              <a:off x="4475160" y="1447920"/>
              <a:ext cx="1766880" cy="2399040"/>
            </a:xfrm>
            <a:custGeom>
              <a:avLst/>
              <a:gdLst>
                <a:gd name="textAreaLeft" fmla="*/ 185400 w 1766880"/>
                <a:gd name="textAreaRight" fmla="*/ 1567080 w 1766880"/>
                <a:gd name="textAreaTop" fmla="*/ 857160 h 2399040"/>
                <a:gd name="textAreaBottom" fmla="*/ 2247120 h 239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gradFill rotWithShape="0">
              <a:gsLst>
                <a:gs pos="0">
                  <a:srgbClr val="426995"/>
                </a:gs>
                <a:gs pos="100000">
                  <a:srgbClr val="68a6ea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Puzzle2"/>
            <p:cNvSpPr/>
            <p:nvPr/>
          </p:nvSpPr>
          <p:spPr>
            <a:xfrm>
              <a:off x="3961080" y="3195720"/>
              <a:ext cx="2820240" cy="2184840"/>
            </a:xfrm>
            <a:custGeom>
              <a:avLst/>
              <a:gdLst>
                <a:gd name="textAreaLeft" fmla="*/ 704160 w 2820240"/>
                <a:gd name="textAreaRight" fmla="*/ 2112840 w 2820240"/>
                <a:gd name="textAreaTop" fmla="*/ 681120 h 2184840"/>
                <a:gd name="textAreaBottom" fmla="*/ 2067840 h 218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gradFill rotWithShape="0">
              <a:gsLst>
                <a:gs pos="0">
                  <a:srgbClr val="8be8d1"/>
                </a:gs>
                <a:gs pos="100000">
                  <a:srgbClr val="00cc99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Puzzle4"/>
            <p:cNvSpPr/>
            <p:nvPr/>
          </p:nvSpPr>
          <p:spPr>
            <a:xfrm>
              <a:off x="2869560" y="3168720"/>
              <a:ext cx="1700280" cy="2793600"/>
            </a:xfrm>
            <a:custGeom>
              <a:avLst/>
              <a:gdLst>
                <a:gd name="textAreaLeft" fmla="*/ 163080 w 1700280"/>
                <a:gd name="textAreaRight" fmla="*/ 1591200 w 1700280"/>
                <a:gd name="textAreaTop" fmla="*/ 731880 h 2793600"/>
                <a:gd name="textAreaBottom" fmla="*/ 2066400 h 279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gradFill rotWithShape="0">
              <a:gsLst>
                <a:gs pos="0">
                  <a:srgbClr val="4173f1"/>
                </a:gs>
                <a:gs pos="100000">
                  <a:srgbClr val="9db7f8"/>
                </a:gs>
              </a:gsLst>
              <a:lin ang="189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Puzzle1"/>
            <p:cNvSpPr/>
            <p:nvPr/>
          </p:nvSpPr>
          <p:spPr>
            <a:xfrm>
              <a:off x="2286000" y="2173680"/>
              <a:ext cx="2855520" cy="1665360"/>
            </a:xfrm>
            <a:custGeom>
              <a:avLst/>
              <a:gdLst>
                <a:gd name="textAreaLeft" fmla="*/ 804240 w 2855520"/>
                <a:gd name="textAreaRight" fmla="*/ 2132280 w 2855520"/>
                <a:gd name="textAreaTop" fmla="*/ 198000 h 1665360"/>
                <a:gd name="textAreaBottom" fmla="*/ 1506960 h 166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gradFill rotWithShape="0">
              <a:gsLst>
                <a:gs pos="0">
                  <a:srgbClr val="a982ca"/>
                </a:gs>
                <a:gs pos="100000">
                  <a:srgbClr val="4e3c5d"/>
                </a:gs>
              </a:gsLst>
              <a:lin ang="27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Text Box 8"/>
          <p:cNvSpPr/>
          <p:nvPr/>
        </p:nvSpPr>
        <p:spPr>
          <a:xfrm>
            <a:off x="6477840" y="396252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9"/>
          <p:cNvSpPr/>
          <p:nvPr/>
        </p:nvSpPr>
        <p:spPr>
          <a:xfrm>
            <a:off x="838080" y="33526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10"/>
          <p:cNvSpPr/>
          <p:nvPr/>
        </p:nvSpPr>
        <p:spPr>
          <a:xfrm>
            <a:off x="2438280" y="144792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1"/>
          <p:cNvSpPr/>
          <p:nvPr/>
        </p:nvSpPr>
        <p:spPr>
          <a:xfrm>
            <a:off x="4267080" y="5638680"/>
            <a:ext cx="281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Footer Placeholder 3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AutoShape 3"/>
          <p:cNvSpPr/>
          <p:nvPr/>
        </p:nvSpPr>
        <p:spPr>
          <a:xfrm>
            <a:off x="6380280" y="32050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b3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4"/>
          <p:cNvSpPr/>
          <p:nvPr/>
        </p:nvSpPr>
        <p:spPr>
          <a:xfrm>
            <a:off x="4684680" y="32050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b3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5"/>
          <p:cNvSpPr/>
          <p:nvPr/>
        </p:nvSpPr>
        <p:spPr>
          <a:xfrm>
            <a:off x="3002040" y="32050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b3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6"/>
          <p:cNvSpPr/>
          <p:nvPr/>
        </p:nvSpPr>
        <p:spPr>
          <a:xfrm>
            <a:off x="1295280" y="32050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b3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7"/>
          <p:cNvGrpSpPr/>
          <p:nvPr/>
        </p:nvGrpSpPr>
        <p:grpSpPr>
          <a:xfrm>
            <a:off x="1356120" y="1635120"/>
            <a:ext cx="6215040" cy="1324440"/>
            <a:chOff x="1356120" y="1635120"/>
            <a:chExt cx="6215040" cy="1324440"/>
          </a:xfrm>
        </p:grpSpPr>
        <p:sp>
          <p:nvSpPr>
            <p:cNvPr id="520" name="Rectangle 8"/>
            <p:cNvSpPr/>
            <p:nvPr/>
          </p:nvSpPr>
          <p:spPr>
            <a:xfrm rot="3418800">
              <a:off x="1563840" y="18428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4173f1"/>
                </a:gs>
                <a:gs pos="100000">
                  <a:srgbClr val="1e357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1" name="Group 9"/>
            <p:cNvGrpSpPr/>
            <p:nvPr/>
          </p:nvGrpSpPr>
          <p:grpSpPr>
            <a:xfrm>
              <a:off x="2486880" y="2016000"/>
              <a:ext cx="901440" cy="124200"/>
              <a:chOff x="2486880" y="2016000"/>
              <a:chExt cx="901440" cy="124200"/>
            </a:xfrm>
          </p:grpSpPr>
          <p:sp>
            <p:nvSpPr>
              <p:cNvPr id="522" name="Oval 10"/>
              <p:cNvSpPr/>
              <p:nvPr/>
            </p:nvSpPr>
            <p:spPr>
              <a:xfrm>
                <a:off x="2486880" y="20160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Rectangle 11"/>
              <p:cNvSpPr/>
              <p:nvPr/>
            </p:nvSpPr>
            <p:spPr>
              <a:xfrm>
                <a:off x="2573280" y="20167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Oval 12"/>
              <p:cNvSpPr/>
              <p:nvPr/>
            </p:nvSpPr>
            <p:spPr>
              <a:xfrm>
                <a:off x="3251520" y="20174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Oval 13"/>
              <p:cNvSpPr/>
              <p:nvPr/>
            </p:nvSpPr>
            <p:spPr>
              <a:xfrm>
                <a:off x="3324960" y="20574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6" name="Rectangle 14"/>
            <p:cNvSpPr/>
            <p:nvPr/>
          </p:nvSpPr>
          <p:spPr>
            <a:xfrm rot="3418800">
              <a:off x="3228480" y="1780560"/>
              <a:ext cx="874080" cy="970920"/>
            </a:xfrm>
            <a:prstGeom prst="rect">
              <a:avLst/>
            </a:prstGeom>
            <a:solidFill>
              <a:srgbClr val="68a6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7" name="Group 15"/>
            <p:cNvGrpSpPr/>
            <p:nvPr/>
          </p:nvGrpSpPr>
          <p:grpSpPr>
            <a:xfrm>
              <a:off x="4151520" y="2016000"/>
              <a:ext cx="901440" cy="124200"/>
              <a:chOff x="4151520" y="2016000"/>
              <a:chExt cx="901440" cy="124200"/>
            </a:xfrm>
          </p:grpSpPr>
          <p:sp>
            <p:nvSpPr>
              <p:cNvPr id="528" name="Oval 16"/>
              <p:cNvSpPr/>
              <p:nvPr/>
            </p:nvSpPr>
            <p:spPr>
              <a:xfrm>
                <a:off x="4151520" y="20160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Rectangle 17"/>
              <p:cNvSpPr/>
              <p:nvPr/>
            </p:nvSpPr>
            <p:spPr>
              <a:xfrm>
                <a:off x="4237920" y="20167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Oval 18"/>
              <p:cNvSpPr/>
              <p:nvPr/>
            </p:nvSpPr>
            <p:spPr>
              <a:xfrm>
                <a:off x="4916160" y="20174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Oval 19"/>
              <p:cNvSpPr/>
              <p:nvPr/>
            </p:nvSpPr>
            <p:spPr>
              <a:xfrm>
                <a:off x="4989600" y="20574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2" name="Rectangle 20"/>
            <p:cNvSpPr/>
            <p:nvPr/>
          </p:nvSpPr>
          <p:spPr>
            <a:xfrm rot="3418800">
              <a:off x="4823280" y="1782360"/>
              <a:ext cx="874440" cy="969480"/>
            </a:xfrm>
            <a:prstGeom prst="rect">
              <a:avLst/>
            </a:prstGeom>
            <a:gradFill rotWithShape="0">
              <a:gsLst>
                <a:gs pos="0">
                  <a:srgbClr val="4173f1"/>
                </a:gs>
                <a:gs pos="100000">
                  <a:srgbClr val="1e357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3" name="Group 21"/>
            <p:cNvGrpSpPr/>
            <p:nvPr/>
          </p:nvGrpSpPr>
          <p:grpSpPr>
            <a:xfrm>
              <a:off x="5816520" y="2016000"/>
              <a:ext cx="1178280" cy="124200"/>
              <a:chOff x="5816520" y="2016000"/>
              <a:chExt cx="1178280" cy="124200"/>
            </a:xfrm>
          </p:grpSpPr>
          <p:sp>
            <p:nvSpPr>
              <p:cNvPr id="534" name="Oval 22"/>
              <p:cNvSpPr/>
              <p:nvPr/>
            </p:nvSpPr>
            <p:spPr>
              <a:xfrm>
                <a:off x="5816520" y="20160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Rectangle 23"/>
              <p:cNvSpPr/>
              <p:nvPr/>
            </p:nvSpPr>
            <p:spPr>
              <a:xfrm>
                <a:off x="5929560" y="20167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Oval 24"/>
              <p:cNvSpPr/>
              <p:nvPr/>
            </p:nvSpPr>
            <p:spPr>
              <a:xfrm>
                <a:off x="6816240" y="20174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Oval 25"/>
              <p:cNvSpPr/>
              <p:nvPr/>
            </p:nvSpPr>
            <p:spPr>
              <a:xfrm>
                <a:off x="6912360" y="20574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8" name="Rectangle 26"/>
            <p:cNvSpPr/>
            <p:nvPr/>
          </p:nvSpPr>
          <p:spPr>
            <a:xfrm rot="3418800">
              <a:off x="6488640" y="1780560"/>
              <a:ext cx="874080" cy="970920"/>
            </a:xfrm>
            <a:prstGeom prst="rect">
              <a:avLst/>
            </a:prstGeom>
            <a:solidFill>
              <a:srgbClr val="68a6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Rectangle 27"/>
          <p:cNvSpPr/>
          <p:nvPr/>
        </p:nvSpPr>
        <p:spPr>
          <a:xfrm>
            <a:off x="1671120" y="2130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28"/>
          <p:cNvSpPr/>
          <p:nvPr/>
        </p:nvSpPr>
        <p:spPr>
          <a:xfrm>
            <a:off x="3366720" y="2130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29"/>
          <p:cNvSpPr/>
          <p:nvPr/>
        </p:nvSpPr>
        <p:spPr>
          <a:xfrm>
            <a:off x="4912920" y="2130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30"/>
          <p:cNvSpPr/>
          <p:nvPr/>
        </p:nvSpPr>
        <p:spPr>
          <a:xfrm>
            <a:off x="6608160" y="2130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31"/>
          <p:cNvSpPr/>
          <p:nvPr/>
        </p:nvSpPr>
        <p:spPr>
          <a:xfrm>
            <a:off x="1677600" y="34225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32"/>
          <p:cNvSpPr/>
          <p:nvPr/>
        </p:nvSpPr>
        <p:spPr>
          <a:xfrm>
            <a:off x="3371400" y="34225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33"/>
          <p:cNvSpPr/>
          <p:nvPr/>
        </p:nvSpPr>
        <p:spPr>
          <a:xfrm>
            <a:off x="5066640" y="34225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4"/>
          <p:cNvSpPr/>
          <p:nvPr/>
        </p:nvSpPr>
        <p:spPr>
          <a:xfrm>
            <a:off x="6762240" y="34225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838080" y="2079720"/>
          <a:ext cx="7467840" cy="312408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720"/>
                <a:gridCol w="1149120"/>
                <a:gridCol w="1157400"/>
                <a:gridCol w="114948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8a6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8a6ea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8a6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8a6ea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8a6ea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319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3191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48000"/>
                      </a:srgbClr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319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3191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319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3191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Footer Placeholder 3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Group 2"/>
          <p:cNvGrpSpPr/>
          <p:nvPr/>
        </p:nvGrpSpPr>
        <p:grpSpPr>
          <a:xfrm>
            <a:off x="1173240" y="1302480"/>
            <a:ext cx="6599160" cy="4675680"/>
            <a:chOff x="1173240" y="1302480"/>
            <a:chExt cx="6599160" cy="4675680"/>
          </a:xfrm>
        </p:grpSpPr>
        <p:sp>
          <p:nvSpPr>
            <p:cNvPr id="552" name="Oval 3"/>
            <p:cNvSpPr/>
            <p:nvPr/>
          </p:nvSpPr>
          <p:spPr>
            <a:xfrm>
              <a:off x="2209680" y="431316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4"/>
            <p:cNvSpPr/>
            <p:nvPr/>
          </p:nvSpPr>
          <p:spPr>
            <a:xfrm rot="20601600">
              <a:off x="1484280" y="219960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5"/>
            <p:cNvSpPr/>
            <p:nvPr/>
          </p:nvSpPr>
          <p:spPr>
            <a:xfrm rot="20601600">
              <a:off x="1540800" y="203760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Arc 6"/>
            <p:cNvSpPr/>
            <p:nvPr/>
          </p:nvSpPr>
          <p:spPr>
            <a:xfrm rot="20601600">
              <a:off x="4197240" y="192672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4173f1"/>
                </a:gs>
                <a:gs pos="100000">
                  <a:srgbClr val="86a6f6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Arc 7"/>
            <p:cNvSpPr/>
            <p:nvPr/>
          </p:nvSpPr>
          <p:spPr>
            <a:xfrm flipH="1" rot="20602200">
              <a:off x="1784880" y="380196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4974a3"/>
                </a:gs>
                <a:gs pos="100000">
                  <a:srgbClr val="68a6ea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Arc 8"/>
            <p:cNvSpPr/>
            <p:nvPr/>
          </p:nvSpPr>
          <p:spPr>
            <a:xfrm rot="20601600">
              <a:off x="2793960" y="197280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4173f1"/>
                </a:gs>
                <a:gs pos="100000">
                  <a:srgbClr val="2f53af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Arc 9"/>
            <p:cNvSpPr/>
            <p:nvPr/>
          </p:nvSpPr>
          <p:spPr>
            <a:xfrm flipH="1" rot="20602200">
              <a:off x="1441800" y="256680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005e47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0"/>
            <p:cNvSpPr/>
            <p:nvPr/>
          </p:nvSpPr>
          <p:spPr>
            <a:xfrm>
              <a:off x="5535360" y="347004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d8c6e7"/>
                </a:gs>
                <a:gs pos="100000">
                  <a:srgbClr val="a982c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Arc 11"/>
            <p:cNvSpPr/>
            <p:nvPr/>
          </p:nvSpPr>
          <p:spPr>
            <a:xfrm rot="20539200">
              <a:off x="4579920" y="285876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4e3c5d"/>
                </a:gs>
                <a:gs pos="100000">
                  <a:srgbClr val="a982ca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12"/>
            <p:cNvSpPr/>
            <p:nvPr/>
          </p:nvSpPr>
          <p:spPr>
            <a:xfrm>
              <a:off x="4546440" y="380988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d8c6e7"/>
                </a:gs>
                <a:gs pos="100000">
                  <a:srgbClr val="a982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Oval 13"/>
            <p:cNvSpPr/>
            <p:nvPr/>
          </p:nvSpPr>
          <p:spPr>
            <a:xfrm rot="20601600">
              <a:off x="3001680" y="27522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 Box 14"/>
            <p:cNvSpPr/>
            <p:nvPr/>
          </p:nvSpPr>
          <p:spPr>
            <a:xfrm>
              <a:off x="1992600" y="3431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 Box 15"/>
            <p:cNvSpPr/>
            <p:nvPr/>
          </p:nvSpPr>
          <p:spPr>
            <a:xfrm>
              <a:off x="3897720" y="2212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 Box 16"/>
            <p:cNvSpPr/>
            <p:nvPr/>
          </p:nvSpPr>
          <p:spPr>
            <a:xfrm>
              <a:off x="5726520" y="2517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 Box 17"/>
            <p:cNvSpPr/>
            <p:nvPr/>
          </p:nvSpPr>
          <p:spPr>
            <a:xfrm>
              <a:off x="5421600" y="37368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 Box 18"/>
            <p:cNvSpPr/>
            <p:nvPr/>
          </p:nvSpPr>
          <p:spPr>
            <a:xfrm>
              <a:off x="3211920" y="4422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19"/>
            <p:cNvSpPr/>
            <p:nvPr/>
          </p:nvSpPr>
          <p:spPr>
            <a:xfrm>
              <a:off x="4465440" y="402552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4173f1">
                    <a:alpha val="19215"/>
                  </a:srgbClr>
                </a:gs>
                <a:gs pos="100000">
                  <a:srgbClr val="80a2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20"/>
            <p:cNvSpPr/>
            <p:nvPr/>
          </p:nvSpPr>
          <p:spPr>
            <a:xfrm rot="20601600">
              <a:off x="3103560" y="300492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Footer Placeholder 3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3" name="AutoShape 3"/>
          <p:cNvSpPr/>
          <p:nvPr/>
        </p:nvSpPr>
        <p:spPr>
          <a:xfrm>
            <a:off x="1905120" y="228600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68a6e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4"/>
          <p:cNvSpPr/>
          <p:nvPr/>
        </p:nvSpPr>
        <p:spPr>
          <a:xfrm>
            <a:off x="1676520" y="1523880"/>
            <a:ext cx="5790960" cy="574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173f1"/>
              </a:gs>
              <a:gs pos="50000">
                <a:srgbClr val="85a5f6"/>
              </a:gs>
              <a:gs pos="100000">
                <a:srgbClr val="4173f1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3656160" y="289548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Group 6"/>
          <p:cNvGrpSpPr/>
          <p:nvPr/>
        </p:nvGrpSpPr>
        <p:grpSpPr>
          <a:xfrm>
            <a:off x="914400" y="4159080"/>
            <a:ext cx="1579680" cy="2070360"/>
            <a:chOff x="914400" y="4159080"/>
            <a:chExt cx="1579680" cy="2070360"/>
          </a:xfrm>
        </p:grpSpPr>
        <p:grpSp>
          <p:nvGrpSpPr>
            <p:cNvPr id="577" name="Group 7"/>
            <p:cNvGrpSpPr/>
            <p:nvPr/>
          </p:nvGrpSpPr>
          <p:grpSpPr>
            <a:xfrm>
              <a:off x="914400" y="4159080"/>
              <a:ext cx="1486080" cy="1514520"/>
              <a:chOff x="914400" y="4159080"/>
              <a:chExt cx="1486080" cy="1514520"/>
            </a:xfrm>
          </p:grpSpPr>
          <p:grpSp>
            <p:nvGrpSpPr>
              <p:cNvPr id="578" name="Group 8"/>
              <p:cNvGrpSpPr/>
              <p:nvPr/>
            </p:nvGrpSpPr>
            <p:grpSpPr>
              <a:xfrm>
                <a:off x="914400" y="4159080"/>
                <a:ext cx="1486080" cy="1514520"/>
                <a:chOff x="914400" y="4159080"/>
                <a:chExt cx="1486080" cy="1514520"/>
              </a:xfrm>
            </p:grpSpPr>
            <p:sp>
              <p:nvSpPr>
                <p:cNvPr id="579" name="Oval 9"/>
                <p:cNvSpPr/>
                <p:nvPr/>
              </p:nvSpPr>
              <p:spPr>
                <a:xfrm>
                  <a:off x="914400" y="4159080"/>
                  <a:ext cx="1486080" cy="151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82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Freeform 10"/>
                <p:cNvSpPr/>
                <p:nvPr/>
              </p:nvSpPr>
              <p:spPr>
                <a:xfrm>
                  <a:off x="1084320" y="4183920"/>
                  <a:ext cx="1146240" cy="571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cc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1" name="Text Box 11"/>
              <p:cNvSpPr/>
              <p:nvPr/>
            </p:nvSpPr>
            <p:spPr>
              <a:xfrm>
                <a:off x="1072800" y="493020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2" name="Oval 12"/>
            <p:cNvSpPr/>
            <p:nvPr/>
          </p:nvSpPr>
          <p:spPr>
            <a:xfrm>
              <a:off x="914400" y="579132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Group 13"/>
          <p:cNvGrpSpPr/>
          <p:nvPr/>
        </p:nvGrpSpPr>
        <p:grpSpPr>
          <a:xfrm>
            <a:off x="2819520" y="4159080"/>
            <a:ext cx="1617480" cy="2070360"/>
            <a:chOff x="2819520" y="4159080"/>
            <a:chExt cx="1617480" cy="2070360"/>
          </a:xfrm>
        </p:grpSpPr>
        <p:grpSp>
          <p:nvGrpSpPr>
            <p:cNvPr id="584" name="Group 14"/>
            <p:cNvGrpSpPr/>
            <p:nvPr/>
          </p:nvGrpSpPr>
          <p:grpSpPr>
            <a:xfrm>
              <a:off x="2819520" y="4159080"/>
              <a:ext cx="1523880" cy="1521000"/>
              <a:chOff x="2819520" y="4159080"/>
              <a:chExt cx="1523880" cy="1521000"/>
            </a:xfrm>
          </p:grpSpPr>
          <p:sp>
            <p:nvSpPr>
              <p:cNvPr id="585" name="Oval 15"/>
              <p:cNvSpPr/>
              <p:nvPr/>
            </p:nvSpPr>
            <p:spPr>
              <a:xfrm>
                <a:off x="2819520" y="4159080"/>
                <a:ext cx="1523880" cy="1521000"/>
              </a:xfrm>
              <a:prstGeom prst="ellipse">
                <a:avLst/>
              </a:prstGeom>
              <a:gradFill rotWithShape="0">
                <a:gsLst>
                  <a:gs pos="0">
                    <a:srgbClr val="4173f1"/>
                  </a:gs>
                  <a:gs pos="100000">
                    <a:srgbClr val="213b7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16"/>
              <p:cNvSpPr/>
              <p:nvPr/>
            </p:nvSpPr>
            <p:spPr>
              <a:xfrm>
                <a:off x="2994480" y="418428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4173f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7" name="Text Box 17"/>
            <p:cNvSpPr/>
            <p:nvPr/>
          </p:nvSpPr>
          <p:spPr>
            <a:xfrm>
              <a:off x="2895480" y="488952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18"/>
            <p:cNvSpPr/>
            <p:nvPr/>
          </p:nvSpPr>
          <p:spPr>
            <a:xfrm>
              <a:off x="2857680" y="5791320"/>
              <a:ext cx="1579320" cy="4381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Group 19"/>
          <p:cNvGrpSpPr/>
          <p:nvPr/>
        </p:nvGrpSpPr>
        <p:grpSpPr>
          <a:xfrm>
            <a:off x="4876920" y="4114800"/>
            <a:ext cx="1631880" cy="2114640"/>
            <a:chOff x="4876920" y="4114800"/>
            <a:chExt cx="1631880" cy="2114640"/>
          </a:xfrm>
        </p:grpSpPr>
        <p:grpSp>
          <p:nvGrpSpPr>
            <p:cNvPr id="590" name="Group 20"/>
            <p:cNvGrpSpPr/>
            <p:nvPr/>
          </p:nvGrpSpPr>
          <p:grpSpPr>
            <a:xfrm>
              <a:off x="4876920" y="4114800"/>
              <a:ext cx="1523880" cy="1521000"/>
              <a:chOff x="4876920" y="4114800"/>
              <a:chExt cx="1523880" cy="1521000"/>
            </a:xfrm>
          </p:grpSpPr>
          <p:sp>
            <p:nvSpPr>
              <p:cNvPr id="591" name="Oval 21"/>
              <p:cNvSpPr/>
              <p:nvPr/>
            </p:nvSpPr>
            <p:spPr>
              <a:xfrm>
                <a:off x="4876920" y="4114800"/>
                <a:ext cx="1523880" cy="1521000"/>
              </a:xfrm>
              <a:prstGeom prst="ellipse">
                <a:avLst/>
              </a:prstGeom>
              <a:gradFill rotWithShape="0">
                <a:gsLst>
                  <a:gs pos="0">
                    <a:srgbClr val="68a6ea"/>
                  </a:gs>
                  <a:gs pos="100000">
                    <a:srgbClr val="3555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22"/>
              <p:cNvSpPr/>
              <p:nvPr/>
            </p:nvSpPr>
            <p:spPr>
              <a:xfrm>
                <a:off x="5051880" y="414000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8a6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3" name="Text Box 23"/>
            <p:cNvSpPr/>
            <p:nvPr/>
          </p:nvSpPr>
          <p:spPr>
            <a:xfrm>
              <a:off x="4952880" y="484488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Oval 24"/>
            <p:cNvSpPr/>
            <p:nvPr/>
          </p:nvSpPr>
          <p:spPr>
            <a:xfrm>
              <a:off x="4929120" y="579132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Group 25"/>
          <p:cNvGrpSpPr/>
          <p:nvPr/>
        </p:nvGrpSpPr>
        <p:grpSpPr>
          <a:xfrm>
            <a:off x="6781680" y="4114800"/>
            <a:ext cx="1579680" cy="2114640"/>
            <a:chOff x="6781680" y="4114800"/>
            <a:chExt cx="1579680" cy="2114640"/>
          </a:xfrm>
        </p:grpSpPr>
        <p:grpSp>
          <p:nvGrpSpPr>
            <p:cNvPr id="596" name="Group 26"/>
            <p:cNvGrpSpPr/>
            <p:nvPr/>
          </p:nvGrpSpPr>
          <p:grpSpPr>
            <a:xfrm>
              <a:off x="6781680" y="4114800"/>
              <a:ext cx="1524240" cy="1531800"/>
              <a:chOff x="6781680" y="4114800"/>
              <a:chExt cx="1524240" cy="1531800"/>
            </a:xfrm>
          </p:grpSpPr>
          <p:grpSp>
            <p:nvGrpSpPr>
              <p:cNvPr id="597" name="Group 27"/>
              <p:cNvGrpSpPr/>
              <p:nvPr/>
            </p:nvGrpSpPr>
            <p:grpSpPr>
              <a:xfrm>
                <a:off x="6781680" y="4114800"/>
                <a:ext cx="1524240" cy="1531800"/>
                <a:chOff x="6781680" y="4114800"/>
                <a:chExt cx="1524240" cy="1531800"/>
              </a:xfrm>
            </p:grpSpPr>
            <p:sp>
              <p:nvSpPr>
                <p:cNvPr id="598" name="Oval 28"/>
                <p:cNvSpPr/>
                <p:nvPr/>
              </p:nvSpPr>
              <p:spPr>
                <a:xfrm>
                  <a:off x="6781680" y="4114800"/>
                  <a:ext cx="1524240" cy="153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82ca"/>
                    </a:gs>
                    <a:gs pos="100000">
                      <a:srgbClr val="29203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Freeform 29"/>
                <p:cNvSpPr/>
                <p:nvPr/>
              </p:nvSpPr>
              <p:spPr>
                <a:xfrm>
                  <a:off x="6955920" y="4140000"/>
                  <a:ext cx="1175760" cy="578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a982c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0" name="Text Box 30"/>
              <p:cNvSpPr/>
              <p:nvPr/>
            </p:nvSpPr>
            <p:spPr>
              <a:xfrm>
                <a:off x="6924960" y="482868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1" name="Oval 31"/>
            <p:cNvSpPr/>
            <p:nvPr/>
          </p:nvSpPr>
          <p:spPr>
            <a:xfrm>
              <a:off x="6781680" y="579132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3"/>
          <p:cNvSpPr/>
          <p:nvPr/>
        </p:nvSpPr>
        <p:spPr>
          <a:xfrm>
            <a:off x="15228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4" name="Group 83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95" name="AutoShape 84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0b3191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85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0b3191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86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87"/>
            <p:cNvSpPr/>
            <p:nvPr/>
          </p:nvSpPr>
          <p:spPr>
            <a:xfrm>
              <a:off x="2289600" y="200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88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00" name="AutoShape 89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68a6ea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90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68a6ea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91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92"/>
            <p:cNvSpPr/>
            <p:nvPr/>
          </p:nvSpPr>
          <p:spPr>
            <a:xfrm>
              <a:off x="2289600" y="2841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93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05" name="AutoShape 94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4173f1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utoShape 95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4173f1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96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97"/>
            <p:cNvSpPr/>
            <p:nvPr/>
          </p:nvSpPr>
          <p:spPr>
            <a:xfrm>
              <a:off x="2289600" y="367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98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10" name="AutoShape 99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a982ca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utoShape 100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a982ca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101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102"/>
            <p:cNvSpPr/>
            <p:nvPr/>
          </p:nvSpPr>
          <p:spPr>
            <a:xfrm>
              <a:off x="2289600" y="459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WordArt 5"/>
          <p:cNvSpPr txBox="1"/>
          <p:nvPr/>
        </p:nvSpPr>
        <p:spPr>
          <a:xfrm>
            <a:off x="2013120" y="4952880"/>
            <a:ext cx="5378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04d6c"/>
                    </a:gs>
                    <a:gs pos="100000">
                      <a:srgbClr val="68a6ea"/>
                    </a:gs>
                  </a:gsLst>
                  <a:lin ang="0"/>
                </a:gra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04d6c"/>
                  </a:gs>
                  <a:gs pos="100000">
                    <a:srgbClr val="68a6ea"/>
                  </a:gs>
                </a:gsLst>
                <a:lin ang="0"/>
              </a:gra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Date Placeholder 3"/>
          <p:cNvSpPr/>
          <p:nvPr/>
        </p:nvSpPr>
        <p:spPr>
          <a:xfrm>
            <a:off x="15228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294920"/>
            <a:ext cx="7238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173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68a6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8a6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8a6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68a6ea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68a6ea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68a6ea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68a6ea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AutoShape 3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7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5ddfb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8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9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4173f1"/>
              </a:gs>
              <a:gs pos="100000">
                <a:srgbClr val="c3d3f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10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127" name="Group 11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128" name="Oval 12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4173f1"/>
                  </a:gs>
                  <a:gs pos="100000">
                    <a:srgbClr val="20387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Oval 13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abc1f9"/>
                  </a:gs>
                  <a:gs pos="100000">
                    <a:srgbClr val="4173f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Oval 14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304d6c"/>
                </a:gs>
                <a:gs pos="100000">
                  <a:srgbClr val="68a6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5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68a6ea">
                    <a:alpha val="0"/>
                  </a:srgbClr>
                </a:gs>
                <a:gs pos="100000">
                  <a:srgbClr val="cae0f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16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5284b9"/>
                </a:gs>
                <a:gs pos="100000">
                  <a:srgbClr val="68a6ea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17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8a6ea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Text Box 18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9"/>
          <p:cNvSpPr/>
          <p:nvPr/>
        </p:nvSpPr>
        <p:spPr>
          <a:xfrm>
            <a:off x="579132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3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8" name="Group 3"/>
          <p:cNvGrpSpPr/>
          <p:nvPr/>
        </p:nvGrpSpPr>
        <p:grpSpPr>
          <a:xfrm>
            <a:off x="762120" y="1565280"/>
            <a:ext cx="7599600" cy="4753440"/>
            <a:chOff x="762120" y="1565280"/>
            <a:chExt cx="7599600" cy="4753440"/>
          </a:xfrm>
        </p:grpSpPr>
        <p:sp>
          <p:nvSpPr>
            <p:cNvPr id="139" name="Freeform 4"/>
            <p:cNvSpPr/>
            <p:nvPr/>
          </p:nvSpPr>
          <p:spPr>
            <a:xfrm rot="20241600">
              <a:off x="1414800" y="2684520"/>
              <a:ext cx="6320520" cy="251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4e4e4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5"/>
            <p:cNvSpPr/>
            <p:nvPr/>
          </p:nvSpPr>
          <p:spPr>
            <a:xfrm rot="20056200">
              <a:off x="4555080" y="2544480"/>
              <a:ext cx="1105920" cy="3160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6"/>
            <p:cNvSpPr/>
            <p:nvPr/>
          </p:nvSpPr>
          <p:spPr>
            <a:xfrm rot="20056200">
              <a:off x="7241760" y="2781720"/>
              <a:ext cx="1106280" cy="3160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7"/>
            <p:cNvSpPr/>
            <p:nvPr/>
          </p:nvSpPr>
          <p:spPr>
            <a:xfrm rot="20056200">
              <a:off x="3053520" y="5468760"/>
              <a:ext cx="1105920" cy="3160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8"/>
            <p:cNvSpPr/>
            <p:nvPr/>
          </p:nvSpPr>
          <p:spPr>
            <a:xfrm rot="20056200">
              <a:off x="5661360" y="4889520"/>
              <a:ext cx="1105920" cy="3157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9"/>
            <p:cNvSpPr/>
            <p:nvPr/>
          </p:nvSpPr>
          <p:spPr>
            <a:xfrm rot="20056200">
              <a:off x="2184480" y="3967200"/>
              <a:ext cx="1105920" cy="3160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0"/>
            <p:cNvSpPr/>
            <p:nvPr/>
          </p:nvSpPr>
          <p:spPr>
            <a:xfrm>
              <a:off x="3934440" y="1913040"/>
              <a:ext cx="1183680" cy="1142280"/>
            </a:xfrm>
            <a:prstGeom prst="ellipse">
              <a:avLst/>
            </a:prstGeom>
            <a:gradFill rotWithShape="0">
              <a:gsLst>
                <a:gs pos="0">
                  <a:srgbClr val="4173f1"/>
                </a:gs>
                <a:gs pos="100000">
                  <a:srgbClr val="1628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1"/>
            <p:cNvSpPr/>
            <p:nvPr/>
          </p:nvSpPr>
          <p:spPr>
            <a:xfrm>
              <a:off x="1616040" y="3279240"/>
              <a:ext cx="1183680" cy="1142280"/>
            </a:xfrm>
            <a:prstGeom prst="ellipse">
              <a:avLst/>
            </a:prstGeom>
            <a:gradFill rotWithShape="0">
              <a:gsLst>
                <a:gs pos="0">
                  <a:srgbClr val="68a6ea"/>
                </a:gs>
                <a:gs pos="100000">
                  <a:srgbClr val="2134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2"/>
            <p:cNvSpPr/>
            <p:nvPr/>
          </p:nvSpPr>
          <p:spPr>
            <a:xfrm>
              <a:off x="2429640" y="4800960"/>
              <a:ext cx="1181880" cy="1142280"/>
            </a:xfrm>
            <a:prstGeom prst="ellipse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493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3"/>
            <p:cNvSpPr/>
            <p:nvPr/>
          </p:nvSpPr>
          <p:spPr>
            <a:xfrm>
              <a:off x="4989960" y="4236120"/>
              <a:ext cx="1183320" cy="11422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4"/>
            <p:cNvSpPr/>
            <p:nvPr/>
          </p:nvSpPr>
          <p:spPr>
            <a:xfrm>
              <a:off x="6675480" y="2117160"/>
              <a:ext cx="1121040" cy="1142280"/>
            </a:xfrm>
            <a:prstGeom prst="ellipse">
              <a:avLst/>
            </a:prstGeom>
            <a:gradFill rotWithShape="0">
              <a:gsLst>
                <a:gs pos="0">
                  <a:srgbClr val="a982ca"/>
                </a:gs>
                <a:gs pos="100000">
                  <a:srgbClr val="3a2d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5"/>
            <p:cNvSpPr/>
            <p:nvPr/>
          </p:nvSpPr>
          <p:spPr>
            <a:xfrm>
              <a:off x="1860840" y="3689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6"/>
            <p:cNvSpPr/>
            <p:nvPr/>
          </p:nvSpPr>
          <p:spPr>
            <a:xfrm>
              <a:off x="4250160" y="23227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7"/>
            <p:cNvSpPr/>
            <p:nvPr/>
          </p:nvSpPr>
          <p:spPr>
            <a:xfrm>
              <a:off x="6956640" y="25714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8"/>
            <p:cNvSpPr/>
            <p:nvPr/>
          </p:nvSpPr>
          <p:spPr>
            <a:xfrm>
              <a:off x="5305320" y="4645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19"/>
            <p:cNvSpPr/>
            <p:nvPr/>
          </p:nvSpPr>
          <p:spPr>
            <a:xfrm>
              <a:off x="2702520" y="520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20"/>
            <p:cNvSpPr/>
            <p:nvPr/>
          </p:nvSpPr>
          <p:spPr>
            <a:xfrm>
              <a:off x="3527640" y="3572640"/>
              <a:ext cx="239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1"/>
            <p:cNvSpPr/>
            <p:nvPr/>
          </p:nvSpPr>
          <p:spPr>
            <a:xfrm>
              <a:off x="2670120" y="2322720"/>
              <a:ext cx="1687320" cy="129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7" name="AutoShape 22"/>
            <p:cNvCxnSpPr/>
            <p:nvPr/>
          </p:nvCxnSpPr>
          <p:spPr>
            <a:xfrm flipH="1">
              <a:off x="891360" y="2322360"/>
              <a:ext cx="1789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8" name="Text Box 23"/>
            <p:cNvSpPr/>
            <p:nvPr/>
          </p:nvSpPr>
          <p:spPr>
            <a:xfrm>
              <a:off x="762120" y="1913040"/>
              <a:ext cx="213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1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62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e3c5d"/>
                </a:gs>
                <a:gs pos="50000">
                  <a:srgbClr val="a982ca"/>
                </a:gs>
                <a:gs pos="100000">
                  <a:srgbClr val="4e3c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e3c5d"/>
                </a:gs>
                <a:gs pos="50000">
                  <a:srgbClr val="a982ca"/>
                </a:gs>
                <a:gs pos="100000">
                  <a:srgbClr val="4e3c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e3c5d"/>
                </a:gs>
                <a:gs pos="50000">
                  <a:srgbClr val="a982ca"/>
                </a:gs>
                <a:gs pos="100000">
                  <a:srgbClr val="4e3c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95959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95959">
                    <a:alpha val="12156"/>
                  </a:srgbClr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304d6c"/>
                </a:gs>
                <a:gs pos="50000">
                  <a:srgbClr val="68a6ea"/>
                </a:gs>
                <a:gs pos="100000">
                  <a:srgbClr val="304d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7d7d7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18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19"/>
            <p:cNvSpPr/>
            <p:nvPr/>
          </p:nvSpPr>
          <p:spPr>
            <a:xfrm>
              <a:off x="3125520" y="5288760"/>
              <a:ext cx="2816280" cy="57744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e3570"/>
                </a:gs>
                <a:gs pos="50000">
                  <a:srgbClr val="4173f1"/>
                </a:gs>
                <a:gs pos="100000">
                  <a:srgbClr val="1e357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7d7d7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2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83" name="Group 4"/>
            <p:cNvGrpSpPr/>
            <p:nvPr/>
          </p:nvGrpSpPr>
          <p:grpSpPr>
            <a:xfrm>
              <a:off x="3008520" y="2209680"/>
              <a:ext cx="2900880" cy="2705400"/>
              <a:chOff x="3008520" y="2209680"/>
              <a:chExt cx="2900880" cy="2705400"/>
            </a:xfrm>
          </p:grpSpPr>
          <p:sp>
            <p:nvSpPr>
              <p:cNvPr id="184" name="AutoShape 5"/>
              <p:cNvSpPr/>
              <p:nvPr/>
            </p:nvSpPr>
            <p:spPr>
              <a:xfrm flipH="1" rot="16200000">
                <a:off x="2926080" y="3259080"/>
                <a:ext cx="4604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b3191"/>
                  </a:gs>
                  <a:gs pos="100000">
                    <a:srgbClr val="9faed4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AutoShape 6"/>
              <p:cNvSpPr/>
              <p:nvPr/>
            </p:nvSpPr>
            <p:spPr>
              <a:xfrm flipH="1" rot="5400000">
                <a:off x="5531760" y="3209040"/>
                <a:ext cx="45864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b3191"/>
                  </a:gs>
                  <a:gs pos="100000">
                    <a:srgbClr val="9faed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AutoShape 7"/>
              <p:cNvSpPr/>
              <p:nvPr/>
            </p:nvSpPr>
            <p:spPr>
              <a:xfrm flipH="1" rot="10800000">
                <a:off x="423684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b3191"/>
                  </a:gs>
                  <a:gs pos="100000">
                    <a:srgbClr val="9faed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Oval 8"/>
              <p:cNvSpPr/>
              <p:nvPr/>
            </p:nvSpPr>
            <p:spPr>
              <a:xfrm>
                <a:off x="3305520" y="2209680"/>
                <a:ext cx="23245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Oval 9"/>
              <p:cNvSpPr/>
              <p:nvPr/>
            </p:nvSpPr>
            <p:spPr>
              <a:xfrm>
                <a:off x="3438000" y="2345040"/>
                <a:ext cx="20581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Oval 10"/>
              <p:cNvSpPr/>
              <p:nvPr/>
            </p:nvSpPr>
            <p:spPr>
              <a:xfrm>
                <a:off x="3560400" y="2471040"/>
                <a:ext cx="181512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4173f1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Oval 11"/>
              <p:cNvSpPr/>
              <p:nvPr/>
            </p:nvSpPr>
            <p:spPr>
              <a:xfrm>
                <a:off x="3558960" y="2471040"/>
                <a:ext cx="181620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Oval 12"/>
              <p:cNvSpPr/>
              <p:nvPr/>
            </p:nvSpPr>
            <p:spPr>
              <a:xfrm>
                <a:off x="3678480" y="259596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233e82"/>
                  </a:gs>
                  <a:gs pos="50000">
                    <a:srgbClr val="4173f1"/>
                  </a:gs>
                  <a:gs pos="100000">
                    <a:srgbClr val="233e8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Oval 13"/>
              <p:cNvSpPr/>
              <p:nvPr/>
            </p:nvSpPr>
            <p:spPr>
              <a:xfrm>
                <a:off x="3678480" y="259452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AutoShape 14"/>
            <p:cNvSpPr/>
            <p:nvPr/>
          </p:nvSpPr>
          <p:spPr>
            <a:xfrm>
              <a:off x="1143000" y="370764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e3c5d"/>
                </a:gs>
                <a:gs pos="50000">
                  <a:srgbClr val="a982ca"/>
                </a:gs>
                <a:gs pos="100000">
                  <a:srgbClr val="4e3c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utoShape 15"/>
            <p:cNvSpPr/>
            <p:nvPr/>
          </p:nvSpPr>
          <p:spPr>
            <a:xfrm>
              <a:off x="1143000" y="3208320"/>
              <a:ext cx="165888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e3c5d"/>
                </a:gs>
                <a:gs pos="50000">
                  <a:srgbClr val="a982ca"/>
                </a:gs>
                <a:gs pos="100000">
                  <a:srgbClr val="4e3c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utoShape 16"/>
            <p:cNvSpPr/>
            <p:nvPr/>
          </p:nvSpPr>
          <p:spPr>
            <a:xfrm>
              <a:off x="1143000" y="270900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e3c5d"/>
                </a:gs>
                <a:gs pos="50000">
                  <a:srgbClr val="a982ca"/>
                </a:gs>
                <a:gs pos="100000">
                  <a:srgbClr val="4e3c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AutoShape 17"/>
            <p:cNvSpPr/>
            <p:nvPr/>
          </p:nvSpPr>
          <p:spPr>
            <a:xfrm>
              <a:off x="6120360" y="370764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04d6c"/>
                </a:gs>
                <a:gs pos="50000">
                  <a:srgbClr val="68a6ea"/>
                </a:gs>
                <a:gs pos="100000">
                  <a:srgbClr val="304d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AutoShape 18"/>
            <p:cNvSpPr/>
            <p:nvPr/>
          </p:nvSpPr>
          <p:spPr>
            <a:xfrm>
              <a:off x="6120360" y="3208320"/>
              <a:ext cx="172836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04d6c"/>
                </a:gs>
                <a:gs pos="50000">
                  <a:srgbClr val="68a6ea"/>
                </a:gs>
                <a:gs pos="100000">
                  <a:srgbClr val="304d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AutoShape 19"/>
            <p:cNvSpPr/>
            <p:nvPr/>
          </p:nvSpPr>
          <p:spPr>
            <a:xfrm>
              <a:off x="6120360" y="270900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04d6c"/>
                </a:gs>
                <a:gs pos="50000">
                  <a:srgbClr val="68a6ea"/>
                </a:gs>
                <a:gs pos="100000">
                  <a:srgbClr val="304d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22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25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26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27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Line 3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4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5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6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7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8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9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0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1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2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3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4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5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16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23" name="Freeform 17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5e47"/>
                </a:gs>
                <a:gs pos="50000">
                  <a:srgbClr val="00cc99"/>
                </a:gs>
                <a:gs pos="100000">
                  <a:srgbClr val="005e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8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9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1e3570"/>
                </a:gs>
                <a:gs pos="50000">
                  <a:srgbClr val="4173f1"/>
                </a:gs>
                <a:gs pos="100000">
                  <a:srgbClr val="1e35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0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4173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1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e3c5d"/>
                </a:gs>
                <a:gs pos="50000">
                  <a:srgbClr val="a982ca"/>
                </a:gs>
                <a:gs pos="100000">
                  <a:srgbClr val="4e3c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2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51743"/>
                </a:gs>
                <a:gs pos="50000">
                  <a:srgbClr val="0b3191"/>
                </a:gs>
                <a:gs pos="100000">
                  <a:srgbClr val="05174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3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0b3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4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25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00946f"/>
                </a:gs>
                <a:gs pos="50000">
                  <a:srgbClr val="00cc99"/>
                </a:gs>
                <a:gs pos="100000">
                  <a:srgbClr val="00946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26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2f53af"/>
                </a:gs>
                <a:gs pos="50000">
                  <a:srgbClr val="4173f1"/>
                </a:gs>
                <a:gs pos="100000">
                  <a:srgbClr val="2f5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7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a982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28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7b5e93"/>
                </a:gs>
                <a:gs pos="50000">
                  <a:srgbClr val="a982ca"/>
                </a:gs>
                <a:gs pos="100000">
                  <a:srgbClr val="7b5e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29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082469"/>
                </a:gs>
                <a:gs pos="50000">
                  <a:srgbClr val="0b3191"/>
                </a:gs>
                <a:gs pos="100000">
                  <a:srgbClr val="0824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AutoShape 3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ffffff"/>
              </a:gs>
              <a:gs pos="100000">
                <a:srgbClr val="68a6e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4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00cc99"/>
              </a:gs>
              <a:gs pos="100000">
                <a:srgbClr val="4ddbb8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5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6bb8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6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4173f1"/>
              </a:gs>
              <a:gs pos="100000">
                <a:srgbClr val="7a9df5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7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15:18Z</dcterms:created>
  <dc:creator>Admin</dc:creator>
  <dc:description/>
  <dc:language>en-US</dc:language>
  <cp:lastModifiedBy>Anh Hung Pro</cp:lastModifiedBy>
  <dcterms:modified xsi:type="dcterms:W3CDTF">2016-09-06T14:14:45Z</dcterms:modified>
  <cp:revision>2</cp:revision>
  <dc:subject/>
  <dc:title>PowerPoint Template</dc:title>
</cp:coreProperties>
</file>